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6E6-F77F-4109-9B03-8340A45F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7C5-1AE6-4CA1-9383-EE78593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4D9-131C-48A9-BF22-D57F857B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8BA-DAD4-46F2-982D-A203790F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513-7F76-4A6B-9790-992E4F7D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44B-5651-43CA-ABD0-0061DB0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B9A-8EF2-4BC4-B1F5-1E3D45F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DF9-5DFB-47C3-BC90-57A5596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9A-BA06-4936-93BB-95A0110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7FA-F1CF-43C1-9866-1F0AC61C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C91-9283-4276-9B13-0B1790E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2BA-8551-42C7-9F00-2978F3EB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CA332-F1AC-4817-957A-FC01B271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it Question:  Should the U.S. welcome all those who wish to co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Amnesty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giveness for breaking a law – it would allow illegal immigrants to apply for citizenship and enter the naturaliz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2040" y="379440"/>
            <a:ext cx="70614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ave immigrants come to the U.S. In the past and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s have immigrants had on this country throughout its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immigrants been received by those here befor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reason have some people opposed immigration at points in U.S.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llenges has immigration presented to the United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1143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mmigrant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Someone who has moved from a different country to live in the U.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7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an be a non-citizen (alien) or a 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7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an be legally in the country or here illeg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Visa: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Official permission to stay in the country for a limited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ifferent lengths depending on type of visa (example:  5 years for student vi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Naturalization: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The process of becoming a U.S. 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eed to be legally in the country for 5 years before applying for citize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Green Card: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Permission to live permanently in the country (difficult to g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llegal Immigrant:</a:t>
            </a:r>
            <a:r>
              <a:rPr b="0" lang="en-US" sz="48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A person in the country without permission (or with an expired vis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Undocumented Immigrant: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 Same as above:  A person in the country without permission (or with an expired vi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15840"/>
            <a:ext cx="907092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Immigration Refo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(What ideas come to mind when you hear 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ve term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ore border secu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ake naturalization process eas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Punish employers who hire illegal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- Mass de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3:01:53Z</dcterms:created>
  <dc:creator/>
  <dc:description/>
  <dc:language>en-US</dc:language>
  <cp:lastModifiedBy/>
  <cp:revision>1</cp:revision>
  <dc:subject/>
  <dc:title/>
</cp:coreProperties>
</file>